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4230-FCE1-42BB-A2BD-ACDFE3A75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9005-F370-40C3-BCB7-91FBC731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3D16-2D60-41CB-A58E-69A8E238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CAAF-4CC8-418E-98DB-ACB72FF8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A12E-CE29-48C8-BB1A-511A8476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8B09-9071-4530-AAA3-2156FE7A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0CAB-2E77-4FC0-803E-8327BD87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32D8-D07B-4C0B-97EF-6E02C499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8C84-3FE0-49C1-8CC3-8ADF4131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331B-CEC0-45F4-AA7D-8DCCC437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0377-9096-4955-9A95-5A3E5328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6A97-93A5-4FA4-BD7B-D9EE73B2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0FC7-6F82-4018-A617-CB7DDAF5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4D67-62E8-4E21-8318-FBF52B42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B1D6-80B8-4DF7-A875-7377A32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C69D-EC38-447F-A5E9-BA7C83F5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547E-53A8-4237-96B8-0F9761E1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7EEA-7C59-494E-9A0E-23FB6D8E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FE32-06E4-415F-B0A9-E7A2A24B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1B88-C23A-4AC0-BB05-DF63E6FE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CFFE-D66E-4884-99B6-A9F40983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92F0-AF5E-46D6-B3B7-9E701FCB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78F6A-72D3-408A-BCE7-D2B578D8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B155-394B-4C53-B750-399BE93C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9A22-5F6F-42D6-96A3-736DB1D3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9B73-C2A2-4742-9D9E-36549A4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B68C-77A9-4C40-A097-02F086811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445D-538F-4BDF-9BA7-DA19EAED51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 LINE UNIFIED POWER QUALITY CONDITIONER</a:t>
            </a:r>
            <a:br>
              <a:rPr sz="4000"/>
            </a:br>
            <a:br>
              <a:rPr sz="66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95320" y="44197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LI AGA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N DONTHARABO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YSTEM RESPONSE WITH OUT IUP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rcRect l="-1444" t="-176" r="0" b="-2034"/>
          <a:stretch/>
        </p:blipFill>
        <p:spPr>
          <a:xfrm>
            <a:off x="1447920" y="243828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367000" y="6247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rcRect l="-1556" t="-173" r="0" b="-1799"/>
          <a:stretch/>
        </p:blipFill>
        <p:spPr>
          <a:xfrm>
            <a:off x="838080" y="13716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90680" y="5866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YSTEM RESPONSE WITH  IUPQ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13" descr=""/>
          <p:cNvPicPr/>
          <p:nvPr/>
        </p:nvPicPr>
        <p:blipFill>
          <a:blip r:embed="rId1"/>
          <a:srcRect l="-1556" t="-1958" r="0" b="-2126"/>
          <a:stretch/>
        </p:blipFill>
        <p:spPr>
          <a:xfrm>
            <a:off x="1219320" y="1905120"/>
            <a:ext cx="7010280" cy="372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367000" y="59428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16" descr=""/>
          <p:cNvPicPr/>
          <p:nvPr/>
        </p:nvPicPr>
        <p:blipFill>
          <a:blip r:embed="rId1"/>
          <a:srcRect l="-1556" t="-878" r="0" b="-2038"/>
          <a:stretch/>
        </p:blipFill>
        <p:spPr>
          <a:xfrm>
            <a:off x="1143000" y="1371600"/>
            <a:ext cx="6280200" cy="4351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290680" y="594288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18" descr=""/>
          <p:cNvPicPr/>
          <p:nvPr/>
        </p:nvPicPr>
        <p:blipFill>
          <a:blip r:embed="rId1"/>
          <a:srcRect l="-1444" t="-2107" r="0" b="-1742"/>
          <a:stretch/>
        </p:blipFill>
        <p:spPr>
          <a:xfrm>
            <a:off x="990720" y="11430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290680" y="579060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c 1a(voltage across the feedback capac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PQC is able to protect the distribution system from various disturbances occurring either in Fe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sitive load is fully protected against sag/swell and interru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presence of IUPQC the performance of the system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TH</a:t>
            </a:r>
            <a:r>
              <a:rPr b="1" lang="en-US" sz="6600" spc="-1" strike="noStrike">
                <a:solidFill>
                  <a:srgbClr val="00b0f0"/>
                </a:solidFill>
                <a:latin typeface="Comic Sans MS"/>
              </a:rPr>
              <a:t>AN</a:t>
            </a:r>
            <a:r>
              <a:rPr b="1" lang="en-US" sz="6600" spc="-1" strike="noStrike">
                <a:solidFill>
                  <a:srgbClr val="00b050"/>
                </a:solidFill>
                <a:latin typeface="Comic Sans MS"/>
              </a:rPr>
              <a:t>K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835200" y="2206800"/>
            <a:ext cx="8059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mprove the power quality of two feeders in a distribu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 connection for a Unified Power Quality Conditioner (UPQC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ce (IUPQC) is connected between two feeders coming from different sub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improving the powe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OWE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arm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No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Fli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ns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INGLE  LINE DIAGRAM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STRUCTURE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0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YPICAL IUPQC CONNECTED IN DISTRIBUTION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382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NT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09720" y="1905120"/>
            <a:ext cx="552456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8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1:39Z</dcterms:created>
  <dc:creator>shruthi</dc:creator>
  <dc:description/>
  <dc:language>en-US</dc:language>
  <cp:lastModifiedBy>rainbow9</cp:lastModifiedBy>
  <dcterms:modified xsi:type="dcterms:W3CDTF">2010-09-03T12:53:43Z</dcterms:modified>
  <cp:revision>14</cp:revision>
  <dc:subject/>
  <dc:title>A PROJECT REPORT ON  INTER LINE UNIFIED POWER QUALITY CONDITIONER                  </dc:title>
</cp:coreProperties>
</file>